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3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C2577-AD14-4E54-BCF4-D79BAFAC78E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DB534-BC28-4D84-AE6F-B27833EB33F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DCB80-2501-4D7E-B0FE-2AE80165E0A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0245-A70A-4789-A5ED-5528B0DBE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2C3A-FB06-441F-A236-59CA2190C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9068-35E0-4401-B52B-CE8DC4E80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7DB6-15B0-416D-B89B-23D92BA5F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EB95-8064-47E4-898E-5755612B1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CDBA-61FB-4C34-A6B7-EF57862F6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D238-2FB4-46FF-A989-2D8520FEE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60B3-ECF3-4ABF-8102-555E83075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F396-1C6F-4D21-935C-4BD4DE98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3269-76A1-411F-8694-9B2C28ED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75A8-2031-4A8C-A2BB-F99A602F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FC0D-8218-4DF7-880E-5C1F6794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A8885-7FA1-48CB-B207-9DF1F7FF7BF1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E.M.Pahomova@gmail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381880" cy="1828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Всероссийский конкурс 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«Учитель года России»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360" y="2362320"/>
            <a:ext cx="79246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81bd"/>
                </a:solidFill>
                <a:latin typeface="Arial"/>
              </a:rPr>
              <a:t>Рекомендации при подготовке к конкурсу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E.M.Pahomova@gmail.co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Схема 3" descr=""/>
          <p:cNvPicPr/>
          <p:nvPr/>
        </p:nvPicPr>
        <p:blipFill>
          <a:blip r:embed="rId1"/>
          <a:stretch/>
        </p:blipFill>
        <p:spPr>
          <a:xfrm>
            <a:off x="438120" y="152280"/>
            <a:ext cx="7553520" cy="12798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.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 подготовке выступления  и  в самом выступлени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определении собственных концептуальных позиций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выделении в собственном педагогическом опыте наиболее ценных составляющих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доказательности актуальности и новизны применяемых методов, способов, технологий обучения и воспитания детей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к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ачественно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 логичном представлении  собственного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опыт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.  В к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омпетентн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м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самоанализ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веденного учебного занятия в соответствии с представленным педагогическим опыто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Схема 3" descr=""/>
          <p:cNvPicPr/>
          <p:nvPr/>
        </p:nvPicPr>
        <p:blipFill>
          <a:blip r:embed="rId1"/>
          <a:stretch/>
        </p:blipFill>
        <p:spPr>
          <a:xfrm>
            <a:off x="438120" y="152280"/>
            <a:ext cx="7505640" cy="1279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Verdana"/>
              </a:rPr>
              <a:t>На определении предмета разговора, т.е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Verdana"/>
              </a:rPr>
              <a:t>О ЧЁМ ВЫ ХОТИТЕ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Verdana"/>
              </a:rPr>
              <a:t>РАССКАЗАТЬ?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Схема 3" descr=""/>
          <p:cNvPicPr/>
          <p:nvPr/>
        </p:nvPicPr>
        <p:blipFill>
          <a:blip r:embed="rId1"/>
          <a:stretch/>
        </p:blipFill>
        <p:spPr>
          <a:xfrm>
            <a:off x="438120" y="152280"/>
            <a:ext cx="7505640" cy="12798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96080" indent="-49608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Verdana"/>
              </a:rPr>
              <a:t>На определении объёма информации.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96080" indent="-496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Verdana"/>
              </a:rPr>
              <a:t>Вы хотите рассказать свою педагогическую биографию или представить на обсуждение …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96080" indent="-496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1f497d"/>
                </a:solidFill>
                <a:latin typeface="Verdana"/>
              </a:rPr>
              <a:t>ЧТО?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496080" indent="-496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96080" indent="-49608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96080" indent="-496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96080" indent="-49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Схема 3" descr=""/>
          <p:cNvPicPr/>
          <p:nvPr/>
        </p:nvPicPr>
        <p:blipFill>
          <a:blip r:embed="rId1"/>
          <a:stretch/>
        </p:blipFill>
        <p:spPr>
          <a:xfrm>
            <a:off x="438120" y="152280"/>
            <a:ext cx="7505640" cy="12798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Verdana"/>
              </a:rPr>
              <a:t>На определении формы представления своего опыта.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Verdana"/>
              </a:rPr>
              <a:t>Помним: жанр конкурса – это не защита диссертации, но и не бурный поток сознания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Схема 3" descr=""/>
          <p:cNvPicPr/>
          <p:nvPr/>
        </p:nvPicPr>
        <p:blipFill>
          <a:blip r:embed="rId1"/>
          <a:stretch/>
        </p:blipFill>
        <p:spPr>
          <a:xfrm>
            <a:off x="438120" y="152280"/>
            <a:ext cx="7505640" cy="12798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На построении логики выступлени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ЧТО? Откуда взялось?  Кем придумано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ДЛЯ ЧЕГО (достижения какого результата) используется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КАК разрабатывалось и приобретало практические очертания и технологические конструкции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Verdana"/>
              </a:rPr>
              <a:t>Может именно здесь сказать о взаимодействии …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Пути взаимодействия ( С КЕМ?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Условия реализации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Схема 3" descr=""/>
          <p:cNvPicPr/>
          <p:nvPr/>
        </p:nvPicPr>
        <p:blipFill>
          <a:blip r:embed="rId1"/>
          <a:stretch/>
        </p:blipFill>
        <p:spPr>
          <a:xfrm>
            <a:off x="438120" y="152280"/>
            <a:ext cx="7505640" cy="12798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Verdana"/>
              </a:rPr>
              <a:t>И постоянно помним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Метапредметный характер образования – одно из основных требований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ФГО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Метапредметный характер учебных занятий – один из основных критериев конкурсных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заданий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Прямоугольник 4"/>
          <p:cNvSpPr/>
          <p:nvPr/>
        </p:nvSpPr>
        <p:spPr>
          <a:xfrm>
            <a:off x="3870720" y="32446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Мероприятия 2-ого тура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Учебное занятие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Разговор с учащимися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Беседа с родителям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Учебное занятие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Учебное занятие» (регламент 40 минут, включая 10 минут для анализа занятия и ответы на вопрос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ат: проведение учебного занятия с учащимися, отражающего </a:t>
            </a:r>
            <a:r>
              <a:rPr b="0" lang="ru-RU" sz="2800" spc="-1" strike="noStrike" u="sng">
                <a:solidFill>
                  <a:srgbClr val="102c34"/>
                </a:solidFill>
                <a:uFillTx/>
                <a:latin typeface="Verdana"/>
              </a:rPr>
              <a:t>метапредметны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подход и междисциплинарные связи, умение формировать целостную картину мира и </a:t>
            </a:r>
            <a:r>
              <a:rPr b="0" lang="ru-RU" sz="2800" spc="-1" strike="noStrike">
                <a:solidFill>
                  <a:srgbClr val="102c34"/>
                </a:solidFill>
                <a:latin typeface="Verdana"/>
              </a:rPr>
              <a:t>надпредметны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компетентност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Verdana"/>
              </a:rPr>
              <a:t>Найдите слова-синоним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Рефлексия учебного занят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ответствие содержания, использованных технологий и достигнутых результатов поставленным целям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ответствие замысла и реально развернувшейся учебной ситуаци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лубина и точность анализа учебного занятия и рефлексии своей деятельност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Что стремятся увидеть члены жюри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ладение содержанием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лубина и оригинальность раскрытия темы учебного занятия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здание условий для успешной работы детей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основанность использованных методов.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тапредметность ……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Конкурсные задания – 2013 год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Методическое объединение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(семинар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Учебное заняти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Разговор с учащимис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Беседа с родителям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Мастер-класс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229600" cy="15717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Беседа с учащимися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(регламент до 20 минут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28760" y="15714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Verdana"/>
              </a:rPr>
              <a:t>Формат: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суждение с учащимися актуального для них вопроса в режиме импровизаци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писок возможных вопросов для обсуждения , возрастной и количественный состав группы учащихся определяются участниками финала конкурса на установочном семинаре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нкретный вопрос для обсуждения  выбирают учащиеся на основе списка возможных вопросов непосредственно перед началом и представитель учащихся называет вопрос, выбранный группо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Критерии оценивания: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– 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лубина и воспитательная ценность организованного обсуждения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– 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мение создавать и поддерживать атмосферу взаимоуважения и толерантности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– 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мение организовывать взаимодействие учащихся между собой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– 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мение слушать, слышать и понимать позиции учащихся, адекватно и педагогически целесообразно реагировать на них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– 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мение включить каждого учащегося в обсуждение и формирование выводов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Разговор с родителям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Критерии оценивания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– 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мение выявить и сформулировать педагогическую проблему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– 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мение найти и предложить пути решения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– 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мение взаимодействовать с коллегами и родителями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– 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частие в принятии коллективного решени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Мероприятия 3-го тура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астер-класс» (регламент: до 25 минут, включая 5 минут для ответов на вопрос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ат: проведение мастер-класса для ученического, педагогического, родительского сообществ и общественности, отражающего значение преподаваемого предмета для формирования мировоззрения и общекультурных компетенц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Verdana"/>
              </a:rPr>
              <a:t>Что такое мастер-класс?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Мастер-класс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— это интерактивная форма обучения и обмена опытом, объединяющая формат тренинга и конференции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Мастер-класс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(от английского 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masterclass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master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 — лучший в какой-либо области + 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class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 — занятие, урок) действительно является семинаром, который проводит эксперт в определённой дисциплине, для тех, кто хочет улучшить свои практические достижения в этом предмете. Очевидно, таким образом, что мастер-классы не показывают, а проводят. Придя в русский язык, слово «мастер-класс» и вовсе получило самое широкое значение; так теперь называют практически любой семинар, проводимый опытным человеком, неважно, в какой области знаний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Требования к участнику конкурса: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41536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глубок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я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педагогическ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я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етодическ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я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дидактическ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я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подготовк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;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знания психолого-педагогических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теоретических оснований представляемого опыта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нимани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современных концепций образования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Алгоритм подготовки к конкурсу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1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провести ревизию своего педагогического опы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2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определить тему представляемого опыта, сформулировать ее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3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составить план своего выступл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4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написать текст выступления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Алгоритм подготовки к конкурсу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5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соотнести свое выступление с предъявляемыми в условиях конкурса критериями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6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- подготовить компьютерную презентацию к своему выступлению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7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отрепетировать выступление перед публикой (зеркалом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имерный (возможный) план выступлен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Что? Зачем? Как? Что получаю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ма опыта (проблема из противоречий в образовании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ель, задачи, которые ставите для решения проблем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правления деятельност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заимодействия (сотрудничество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хнологии, методики, используемые в работе (найти «изюминку»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 (прогнозируемый и реаль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зможно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е педагогическое кред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и правил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дагогические цен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Схема 3" descr=""/>
          <p:cNvPicPr/>
          <p:nvPr/>
        </p:nvPicPr>
        <p:blipFill>
          <a:blip r:embed="rId1"/>
          <a:stretch/>
        </p:blipFill>
        <p:spPr>
          <a:xfrm>
            <a:off x="517680" y="176040"/>
            <a:ext cx="8418240" cy="1440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785880" y="1844280"/>
            <a:ext cx="785808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Verdana"/>
              </a:rPr>
              <a:t>«Методическое объединение</a:t>
            </a:r>
            <a:r>
              <a:rPr b="1" i="1" lang="ru-RU" sz="3300" spc="-1" strike="noStrike">
                <a:solidFill>
                  <a:srgbClr val="000000"/>
                </a:solidFill>
                <a:latin typeface="Arial"/>
              </a:rPr>
              <a:t> (семинар)</a:t>
            </a:r>
            <a:r>
              <a:rPr b="1" i="1" lang="ru-RU" sz="3300" spc="-1" strike="noStrike">
                <a:solidFill>
                  <a:srgbClr val="000000"/>
                </a:solidFill>
                <a:latin typeface="Verdana"/>
              </a:rPr>
              <a:t>»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Verdana"/>
              </a:rPr>
              <a:t>или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Verdana"/>
              </a:rPr>
              <a:t>представление  педагогического  опыта 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(по  идее конкурса  -  инновационного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Желаю успехов всем участникам конкурса!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3" descr="j0301252"/>
          <p:cNvPicPr/>
          <p:nvPr/>
        </p:nvPicPr>
        <p:blipFill>
          <a:blip r:embed="rId1"/>
          <a:stretch/>
        </p:blipFill>
        <p:spPr>
          <a:xfrm>
            <a:off x="2209680" y="2674800"/>
            <a:ext cx="4038840" cy="314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ический семинар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регламент до 12 минут, включая вопросы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Формат: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стное представление конкурсантом своего профессионального опыта как опыта, сформировавшегося при взаимодействии с коллегами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чителями различных предметов, педагогами и специалистами образовательных учреждений    разных типов и видов, родителями учеников, общественными организациями, работниками   науки, культуры, сферы здравоохранения, представителями других сфер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Критерии оценивания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мение анализировать, обобщать,    выявлять и применять инновационные идеи в своей  профессиональной деятельности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бщая и профессиональная эрудиция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ультура публичного выступления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мение взаимодействовать с аудиторией.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Критерии оценк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мение анализировать, обобщать, выявлять и применять инновационные идеи в своей профессиональной дея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(эффективность внедрения инноваций в педагогическую практику, ценность педагогических социальных системных  эффектов, эффективность представленных форм взаимодействия, практическая значимость представленных форм трансляции опыта)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Критерии оценк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бщая и профессиональная эруди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(широта кругозора, психолого-педагогическая и методическая грамотность, понимание государственной стратегии в области образования)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Критерии оценк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ультура публичного выступл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(логичность изложения материала, связная устная речь)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Критерии оценк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Умение взаимодействовать с аудиторие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(эмоциональное воздействие на аудиторию, культура использования ИКТ)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Схема 3" descr=""/>
          <p:cNvPicPr/>
          <p:nvPr/>
        </p:nvPicPr>
        <p:blipFill>
          <a:blip r:embed="rId1"/>
          <a:stretch/>
        </p:blipFill>
        <p:spPr>
          <a:xfrm>
            <a:off x="438120" y="255600"/>
            <a:ext cx="7505640" cy="1171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8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400" spc="-1" strike="noStrike">
                <a:solidFill>
                  <a:srgbClr val="1f497d"/>
                </a:solidFill>
                <a:latin typeface="Verdana"/>
              </a:rPr>
              <a:t>?</a:t>
            </a:r>
            <a:endParaRPr b="0" lang="en-US" sz="3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1T16:24:41Z</dcterms:created>
  <dc:creator>Пахомова</dc:creator>
  <dc:description/>
  <dc:language>en-US</dc:language>
  <cp:lastModifiedBy>Гузалия Гилязовна Ибатуллина</cp:lastModifiedBy>
  <dcterms:modified xsi:type="dcterms:W3CDTF">2012-12-18T11:54:58Z</dcterms:modified>
  <cp:revision>35</cp:revision>
  <dc:subject/>
  <dc:title>Представление опыта</dc:title>
</cp:coreProperties>
</file>